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4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12.jpeg" ContentType="image/jpeg"/>
  <Override PartName="/ppt/media/image6.wmf" ContentType="image/x-wmf"/>
  <Override PartName="/ppt/media/image7.wmf" ContentType="image/x-wmf"/>
  <Override PartName="/ppt/media/image22.wmf" ContentType="image/x-wmf"/>
  <Override PartName="/ppt/media/image20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wmf" ContentType="image/x-wmf"/>
  <Override PartName="/ppt/media/image32.jpeg" ContentType="image/jpeg"/>
  <Override PartName="/ppt/media/image18.wmf" ContentType="image/x-wmf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19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604B-74A8-444E-956A-9100AB7E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045A-7A6C-4BD5-A727-E46DB14BC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A0F3-9986-4706-96F1-052E39383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D0D2-BAFF-4B32-AC61-F08BF8B53D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EEB0-D89B-401D-927E-5FED0F389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28C8-0BB2-42BF-86FE-9844BBE8C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C8A8-7FA8-4B78-A1CE-B1A199FB1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E79F-A300-4C7C-8957-8104C5B0E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0F01-5FE2-4907-9E42-6910F9FE9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97E6-2674-4E8C-8FD2-25B68488D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000-287C-4725-97F1-C344B19E6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F280-F74A-4B27-AC0C-6F9497301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E55-FA0C-4A9B-9B3A-9978678F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Chapter #12: </a:t>
            </a:r>
            <a:r>
              <a:rPr b="0" lang="en-US" sz="4800" spc="-1" strike="noStrike">
                <a:solidFill>
                  <a:srgbClr val="3333ff"/>
                </a:solidFill>
                <a:latin typeface="Calibri"/>
              </a:rPr>
              <a:t>Operational-Amplifier Circuits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se12F02"/>
          <p:cNvPicPr/>
          <p:nvPr/>
        </p:nvPicPr>
        <p:blipFill>
          <a:blip r:embed="rId1"/>
          <a:stretch/>
        </p:blipFill>
        <p:spPr>
          <a:xfrm>
            <a:off x="228600" y="2220840"/>
            <a:ext cx="861048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for the op amp in Fig. 12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ommon-Mode Rejection Rati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stag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termined by first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= [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[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bias sour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is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der of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i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ortional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is increased i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ng chann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Respo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349200" y="2209680"/>
          <a:ext cx="536580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209680"/>
                    <a:ext cx="536580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5883120" y="2666880"/>
          <a:ext cx="2651400" cy="27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3120" y="2666880"/>
                    <a:ext cx="265140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se12F03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12"/>
          <p:cNvPicPr/>
          <p:nvPr/>
        </p:nvPicPr>
        <p:blipFill>
          <a:blip r:embed="rId2"/>
          <a:stretch/>
        </p:blipFill>
        <p:spPr>
          <a:xfrm>
            <a:off x="228600" y="5942160"/>
            <a:ext cx="8610480" cy="68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se12F04"/>
          <p:cNvPicPr/>
          <p:nvPr/>
        </p:nvPicPr>
        <p:blipFill>
          <a:blip r:embed="rId1"/>
          <a:stretch/>
        </p:blipFill>
        <p:spPr>
          <a:xfrm>
            <a:off x="228600" y="190440"/>
            <a:ext cx="7086600" cy="6438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343400" y="228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frequency response of the two-stage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Respo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488960" y="2209680"/>
          <a:ext cx="620712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2209680"/>
                    <a:ext cx="62071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of the op amp in Fig. 12.1 with a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luded in series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e12F05"/>
          <p:cNvPicPr/>
          <p:nvPr/>
        </p:nvPicPr>
        <p:blipFill>
          <a:blip r:embed="rId1"/>
          <a:stretch/>
        </p:blipFill>
        <p:spPr>
          <a:xfrm>
            <a:off x="380880" y="2233440"/>
            <a:ext cx="8305920" cy="24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se12F06"/>
          <p:cNvPicPr/>
          <p:nvPr/>
        </p:nvPicPr>
        <p:blipFill>
          <a:blip r:embed="rId1"/>
          <a:stretch/>
        </p:blipFill>
        <p:spPr>
          <a:xfrm>
            <a:off x="380880" y="2209680"/>
            <a:ext cx="8305920" cy="3197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228600" y="56386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unity-gain follower with a large step input. Since the output voltage cannot change immediately, a large differential voltage appears between the op-amp input termi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" y="6004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of the two-stage CMOS op-amp of Fig. 12.1 when a large differential voltage is appl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se12F07"/>
          <p:cNvPicPr/>
          <p:nvPr/>
        </p:nvPicPr>
        <p:blipFill>
          <a:blip r:embed="rId1"/>
          <a:stretch/>
        </p:blipFill>
        <p:spPr>
          <a:xfrm>
            <a:off x="1676520" y="1981080"/>
            <a:ext cx="5790960" cy="393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ionship Between SR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relationship exists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ty-gain bandwidth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and slew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2.31) through (12.4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lew rate is determined by the overdrive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first-stage transistors are oper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 given bias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larg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obtained i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sign and analysis of the two basic CMOS op-amp architecture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two-stage circuit and the single-stage, folded cascode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lete circuit of an analog IC classic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741 op-am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ough 40 years old, the 741 circuit includes so many interesting and useful design techniques that its study is still a m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of negative feedback within op-amp circuit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hieve bias stability and increased CMR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Supply Rejection Rati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xed-signal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C chip which combines analog and digital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ing activity in digital portion results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ipple within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ipple ma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fect op amp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-supply rejection rat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ability of a circuit to eliminate any ripple in the circuit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RR is generally improved throug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zation of capac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Supply Rejection Rati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143000" y="914400"/>
          <a:ext cx="680076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0076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sign Trade-Off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formance of the two-stage CMOS amplifier are primarily determin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design parame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ngth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hannel of each MOSF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verdrive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transistor is oper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ition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defined below.  It determined high-frequency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019240" y="5486400"/>
          <a:ext cx="499104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5486400"/>
                    <a:ext cx="4991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olded-Cascode CMOS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se12F08"/>
          <p:cNvPicPr/>
          <p:nvPr/>
        </p:nvPicPr>
        <p:blipFill>
          <a:blip r:embed="rId1"/>
          <a:stretch/>
        </p:blipFill>
        <p:spPr>
          <a:xfrm>
            <a:off x="76320" y="1978200"/>
            <a:ext cx="6553080" cy="4770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553080" y="36576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of the folded-cascode CMOS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se12F09"/>
          <p:cNvPicPr/>
          <p:nvPr/>
        </p:nvPicPr>
        <p:blipFill>
          <a:blip r:embed="rId1"/>
          <a:stretch/>
        </p:blipFill>
        <p:spPr>
          <a:xfrm>
            <a:off x="844560" y="228600"/>
            <a:ext cx="7461360" cy="5689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52280" y="60040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complete circuit for the folded-cascode CMOS amplifier of Fig. 12.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457200" y="2343240"/>
          <a:ext cx="818208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3240"/>
                    <a:ext cx="81820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295280" y="2154240"/>
          <a:ext cx="660888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54240"/>
                    <a:ext cx="660888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52280" y="60040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of the folded-cascode CMOS amplifier. Note that this circuit is in effect an operational transconductance amplifier (OT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e12F10"/>
          <p:cNvPicPr/>
          <p:nvPr/>
        </p:nvPicPr>
        <p:blipFill>
          <a:blip r:embed="rId1"/>
          <a:stretch/>
        </p:blipFill>
        <p:spPr>
          <a:xfrm>
            <a:off x="228600" y="1569960"/>
            <a:ext cx="8610480" cy="36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741 Op-Amp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s 12.3. through 12.6 focus on 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41 op-amp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2.13. provides a circuit schema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sign uses many transistors, few re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41 requir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2280" y="5470560"/>
            <a:ext cx="88394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ure 12.13: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741 op-amp circuit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1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2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5 generate a reference bias current;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F.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9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8 bias the input stage, which is composed of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to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7. The second gain stage is composed of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6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7 with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3B acting as active load. The class AB output stage is formed by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4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 with biasing devices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3A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8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, and an input buffe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3. Transistors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5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1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2 serve to protect the amplifier against output short circuits and are normally cut of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se12F13"/>
          <p:cNvPicPr/>
          <p:nvPr/>
        </p:nvPicPr>
        <p:blipFill>
          <a:blip r:embed="rId1"/>
          <a:stretch/>
        </p:blipFill>
        <p:spPr>
          <a:xfrm>
            <a:off x="457200" y="192240"/>
            <a:ext cx="8229600" cy="506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eak a large analog circuit into its recognizable 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o be able to make the analysis amendable to a pencil-and-paper approach – which is the best way to learn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n techniques employed in the de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low-voltage single-supply BJT op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mportantly, how the differ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pics we learned about in the preceding chapters come toge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esign of the most important analog IC – the op 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41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S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mitter Followe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fferential Common-Ba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ad Circui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iasing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mediate Single-End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-Buffe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ge (other transis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Second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 Follow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-Emitt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econd stage is taken at collector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nnected in feedback path of second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compensation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ler Tech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le to supply relativ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al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sip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ment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f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sour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3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ias transis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vice Paramet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00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2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n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0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3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3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25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75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devices are non-stand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will be assumed to have area three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standard device – for increased loa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Analysis of the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390760" y="2133720"/>
          <a:ext cx="43149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2133720"/>
                    <a:ext cx="43149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52280" y="630864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dlar current source that biases the in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se12F14"/>
          <p:cNvPicPr/>
          <p:nvPr/>
        </p:nvPicPr>
        <p:blipFill>
          <a:blip r:embed="rId1"/>
          <a:stretch/>
        </p:blipFill>
        <p:spPr>
          <a:xfrm>
            <a:off x="2544840" y="533520"/>
            <a:ext cx="4008240" cy="53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630864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c analysis of the 741 in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se12F15"/>
          <p:cNvPicPr/>
          <p:nvPr/>
        </p:nvPicPr>
        <p:blipFill>
          <a:blip r:embed="rId1"/>
          <a:stretch/>
        </p:blipFill>
        <p:spPr>
          <a:xfrm>
            <a:off x="1911240" y="228600"/>
            <a:ext cx="525168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se12F16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427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c analysis of the 741 input stage, continu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Analysis of the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 rot="21540000">
            <a:off x="0" y="2666880"/>
            <a:ext cx="9067680" cy="33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ay use small-signal analysis (as in previous chapters)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linear behavior of the 74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18 – 12.21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in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25 – 12.27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gain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28 – 12.30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Two Stage CMOS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stage op am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hown in Figure 12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studied in Section 8.6.1 as exampl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-stage CMO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e12F01"/>
          <p:cNvPicPr/>
          <p:nvPr/>
        </p:nvPicPr>
        <p:blipFill>
          <a:blip r:embed="rId1"/>
          <a:stretch/>
        </p:blipFill>
        <p:spPr>
          <a:xfrm>
            <a:off x="4724280" y="3276720"/>
            <a:ext cx="41148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4419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sic two-stage CMOS op-amp configu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e12F21"/>
          <p:cNvPicPr/>
          <p:nvPr/>
        </p:nvPicPr>
        <p:blipFill>
          <a:blip r:embed="rId1"/>
          <a:stretch/>
        </p:blipFill>
        <p:spPr>
          <a:xfrm>
            <a:off x="228600" y="2666880"/>
            <a:ext cx="8686800" cy="2855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28600" y="5943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mall-signal equivalent circuit for the input stage of the 741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se12F25"/>
          <p:cNvPicPr/>
          <p:nvPr/>
        </p:nvPicPr>
        <p:blipFill>
          <a:blip r:embed="rId1"/>
          <a:stretch/>
        </p:blipFill>
        <p:spPr>
          <a:xfrm>
            <a:off x="228600" y="3179880"/>
            <a:ext cx="8686800" cy="2306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-circuit model of the second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MOS op-amps are designed to operate as part of a VLSI circuit and thus required to drive only small capacitive loads.  Therefore, most do not have a low-output-resistance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basically two approaches to  the design of CMOS op-amps: a two-stage configuration and a single-stage topology using the folded-cascode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two-stage CMOS op-amp, approximately equal gains are realized in the two st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reshold mismatch together with the low transconductance of the input stage result in a larger input offset voltage for the CMOS op-amps than for bipolar un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ler compensation is employed in the two-stage CMOS op-amp, but a series resistor is required to place the transmission zero at either s = infinity or on the negative real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op-amps have better slew rates (than alt’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the cascode configuration increases the gain of a CMOS amplifier stage by about two orders of magnitude, thus making possible a single-stage op-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minant pole of the folded-cascode op-amp is determined by the total capacitance at the output CL.  Increasing CL improves the phase margin at the expense of reducing band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two complementary input differential pairs in parallel, the common-mode range may be exte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voltage swing of the folded-cascode op-amp may be extended by utilizing a wide-swing current mirror in place of the cascode mirr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al circuit of the 741 op-amp embodies many of the design techniques employed in bipolar analog integrated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741 circuit consists of an input differential stage, a high-gain single-ended second stage, and a class AB output stage.  It is the basis for many other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low input offset voltage and current, and high CMRR, the 741 input stage is designed to be perfectly balanced.  The CMRR is increased by common-mode feedback, which also stabilizes the dc operating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high input resistance and low input bias current, the input stage of the 741 is operated as a very low current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se of Miller Frequency compensation in the 741 circuit enables locating the dominant pole at a very low frequency, while utilizing a relatively small compensating capac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stage op-amps may be modeled as a transconductance amplifier feeding an ideal integrator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 integrating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lew rate of a two-stage op-amp is determined by the first-stage bias current and frequency-compensation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he 741 and similar op-amps nominally operate from 15V power supplies, modern BJT op-amps typically utilize a single ground-referenced supply of only 2 or 3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Pai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ed by current sour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by a reference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Mirror Loa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tage Ga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0V/V to 60V/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Mode Rejection Rat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MR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2200" y="2243160"/>
          <a:ext cx="8364600" cy="34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43160"/>
                    <a:ext cx="836460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equivalent circui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small-signal operation of CMO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2.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actically infinit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-stage transconduc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qual to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operated at equal bias currents (I/2) and equal overdrive voltage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 (12.7) a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914400" y="2016000"/>
          <a:ext cx="727704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16000"/>
                    <a:ext cx="72770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460440" y="576360"/>
          <a:ext cx="7997760" cy="57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576360"/>
                    <a:ext cx="799776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7:09Z</dcterms:modified>
  <cp:revision>412</cp:revision>
  <dc:subject/>
  <dc:title>Slide 1</dc:title>
</cp:coreProperties>
</file>